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E75C-558F-441F-9A18-070D46337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73C4-7408-4D0E-A62C-80A369D5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du.pe.ca/southernkings/microfung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re what type of microscopic fungi this is…looks like an image of hyph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DB93-6654-4765-8E5E-67FEE6048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903.nicerweb.com/Locked/media/ch31/phyl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792A-ED1D-40DC-BA7F-DBD293A32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college-prep.org/~bernie/sciproject/project/Kingdoms/Fungi5/Fungi_Evolu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0F95-F37C-4677-8C27-E0EB0F72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b.nicerweb.net/Locked/media/lab/diversity/fungi/key115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9C56-8ADC-4B68-9B4F-764103A4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2670-4D7A-4DE8-9FB3-5B21CFA64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esources.schoolscience.co.uk/SGM/sgmmicrobe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fr.wikipedia.org/wiki/Fichier:Yeast_lifecycle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861A-5748-46F9-B763-45069705D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202-3881-4A7F-ADAB-48BA2A13F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Fung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om: http://rachaelherbert.blogspot.ca/2010/04/happy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E82A-C06A-4969-B7B6-558A266EE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ile:Orange_and_white_lich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1895-2B73-41A1-88FF-7B2C3C795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reenmanconservation.co.uk/Mycorrhiz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0269-C814-4698-9775-172E5D2E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bertan1956.blogspot.ca/2011/01/leaf-cutter-ants-overachievers-o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332B-7887-4C06-AA0A-82212C26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wise from top left: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Amanita muscar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 basidiomycete;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Sarcoscypha coccin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 ascomycete;bread covered in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m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a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chyt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an 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Aspergill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conidioph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DC0F-6D42-4F1E-ABDD-BFFE9321E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zazzle.ca/i_love_fungi_mug-1680347453429755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like penicillin (antibiotic), cyclosporine (for organ trans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9F7D-8356-4C6C-9C2A-C1338E1C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hotoshopcontest.com/view-entry/183031/angry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episode description &amp; video: http://www.cbc.ca/natureofthings/features/fungi-are-responsible-for-life-on-land-as-we-know-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6C4F-4DF6-4AD7-8A76-A24B9541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D706-82B3-4D19-B81D-89BD4BFE2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info_8584629_similarities-between-plants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465C-2C96-447F-BFC7-E7E24D786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info_8584629_similarities-between-plants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6C2C-4470-41F0-8505-9F2F165E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haron-taxonomy2009-p3.wikispaces.com/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Fungi are more closely related to animals, no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6D0C-3E50-4EAF-A1FB-E63C1B10D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5FA7-3968-4259-8BA3-BC9D509E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bio1903.nicerweb.com/Locked/media/ch31/fungus-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FE57-C3D5-46A3-B440-C3DCF06B3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CB9-7B7D-4312-8E54-E180FB55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8F3-B3C1-48C0-9A36-DACD4910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8B1-354E-4478-B4C3-130807BC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B7D-0EE9-4242-B40B-74F04ABF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95D-F9DD-4F26-A7EF-858022D0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E27-0E6F-4554-AE4C-F2FB3F7D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E51-355B-47CA-B3A7-BF7F707E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367-15AC-44D8-BE19-573023A9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59D-E70A-48E0-BC36-7BDAD255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6CD-F373-4601-AAD5-DC14C999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EF4-A9C8-4A20-B133-38217E2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277-1103-40C7-AF33-064FF863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AE5E-01C6-46BA-82FE-041AC284A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31_09FungalPhylogeny"/>
          <p:cNvPicPr/>
          <p:nvPr/>
        </p:nvPicPr>
        <p:blipFill>
          <a:blip r:embed="rId1"/>
          <a:stretch/>
        </p:blipFill>
        <p:spPr>
          <a:xfrm>
            <a:off x="2028960" y="609480"/>
            <a:ext cx="508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phylogeny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re complicated, with stages of sexual &amp; asexual reproduction (alternation of gene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sidiomyce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ch as mushrooms) sometimes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kary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 with 2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 of Basidomyc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9" descr="31_20BasidioLifCycl.jpg"/>
          <p:cNvPicPr/>
          <p:nvPr/>
        </p:nvPicPr>
        <p:blipFill>
          <a:blip r:embed="rId1"/>
          <a:srcRect l="-38402" t="0" r="-38402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es by 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y evolved from multicellular 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yeast"/>
          <p:cNvPicPr/>
          <p:nvPr/>
        </p:nvPicPr>
        <p:blipFill>
          <a:blip r:embed="rId1"/>
          <a:stretch/>
        </p:blipFill>
        <p:spPr>
          <a:xfrm>
            <a:off x="4648320" y="2482920"/>
            <a:ext cx="3809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ast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5" descr="800px-Yeast_lifecycle.svg.png"/>
          <p:cNvPicPr/>
          <p:nvPr/>
        </p:nvPicPr>
        <p:blipFill>
          <a:blip r:embed="rId1"/>
          <a:srcRect l="-14097" t="0" r="-14097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ers (like bac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ymbiotic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4520558924_9acd76afca"/>
          <p:cNvPicPr/>
          <p:nvPr/>
        </p:nvPicPr>
        <p:blipFill>
          <a:blip r:embed="rId1"/>
          <a:stretch/>
        </p:blipFill>
        <p:spPr>
          <a:xfrm>
            <a:off x="441972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i + cyanobacteri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n al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800px-Orange_and_white_lichen"/>
          <p:cNvPicPr/>
          <p:nvPr/>
        </p:nvPicPr>
        <p:blipFill>
          <a:blip r:embed="rId1"/>
          <a:stretch/>
        </p:blipFill>
        <p:spPr>
          <a:xfrm>
            <a:off x="4038480" y="24289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rrhi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al mycelium grows around or within root cells of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29" descr="Mycorrhizal_Root_Tips"/>
          <p:cNvPicPr/>
          <p:nvPr/>
        </p:nvPicPr>
        <p:blipFill>
          <a:blip r:embed="rId1"/>
          <a:stretch/>
        </p:blipFill>
        <p:spPr>
          <a:xfrm>
            <a:off x="4191120" y="2330280"/>
            <a:ext cx="4495680" cy="33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-Cutter 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s clean and chew leaves to feed fun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eats fung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Leaf-Cutting-Ants-Photographic-Print-C12816629"/>
          <p:cNvPicPr/>
          <p:nvPr/>
        </p:nvPicPr>
        <p:blipFill>
          <a:blip r:embed="rId1"/>
          <a:stretch/>
        </p:blipFill>
        <p:spPr>
          <a:xfrm>
            <a:off x="4495680" y="2448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Fung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689px-Fungi_collage"/>
          <p:cNvPicPr/>
          <p:nvPr/>
        </p:nvPicPr>
        <p:blipFill>
          <a:blip r:embed="rId1"/>
          <a:stretch/>
        </p:blipFill>
        <p:spPr>
          <a:xfrm>
            <a:off x="1684440" y="1523880"/>
            <a:ext cx="5775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benefi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ble mushrooms, truf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soy sauce, bread, blue chees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of alcoholic beverages &amp; som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i_love_fungi_mug-p168034745342975532enw9p_400"/>
          <p:cNvPicPr/>
          <p:nvPr/>
        </p:nvPicPr>
        <p:blipFill>
          <a:blip r:embed="rId1"/>
          <a:stretch/>
        </p:blipFill>
        <p:spPr>
          <a:xfrm>
            <a:off x="4419720" y="186696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ful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al animal diseases (athle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oot, ringworm, aspergillosi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ungal plant diseases (apple scab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gy1jll286e73vogec1bsy1mwnux7tzggwhgw"/>
          <p:cNvPicPr/>
          <p:nvPr/>
        </p:nvPicPr>
        <p:blipFill>
          <a:blip r:embed="rId1"/>
          <a:stretch/>
        </p:blipFill>
        <p:spPr>
          <a:xfrm>
            <a:off x="4267080" y="230508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great episode on Fungi last Sunday.  Watch the first section to get an idea of the diversity, structure, and evolutionary importance of fun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7" descr="Unknown.jpeg"/>
          <p:cNvPicPr/>
          <p:nvPr/>
        </p:nvPicPr>
        <p:blipFill>
          <a:blip r:embed="rId1"/>
          <a:srcRect l="0" t="-46097" r="0" b="-4609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ities to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sess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ungi also grow i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article-new-thumbnail-ehow-images-a08-5v-dl-similarities-between-plants-fungi-800x800"/>
          <p:cNvPicPr/>
          <p:nvPr/>
        </p:nvPicPr>
        <p:blipFill>
          <a:blip r:embed="rId1"/>
          <a:stretch/>
        </p:blipFill>
        <p:spPr>
          <a:xfrm>
            <a:off x="4191120" y="2611440"/>
            <a:ext cx="4267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fro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05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hotosyn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structures (e.g. cell w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article-new-thumbnail-ehow-images-a08-5v-dl-similarities-between-plants-fungi-800x800"/>
          <p:cNvPicPr/>
          <p:nvPr/>
        </p:nvPicPr>
        <p:blipFill>
          <a:blip r:embed="rId1"/>
          <a:stretch/>
        </p:blipFill>
        <p:spPr>
          <a:xfrm>
            <a:off x="4191120" y="2611440"/>
            <a:ext cx="4267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28_04EukPhylogeny"/>
          <p:cNvPicPr/>
          <p:nvPr/>
        </p:nvPicPr>
        <p:blipFill>
          <a:blip r:embed="rId1"/>
          <a:stretch/>
        </p:blipFill>
        <p:spPr>
          <a:xfrm>
            <a:off x="304920" y="590400"/>
            <a:ext cx="85341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gi are heterotrophic with extern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structures usually abov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usually below ground (branched network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h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cel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1_02FungusStructure"/>
          <p:cNvPicPr/>
          <p:nvPr/>
        </p:nvPicPr>
        <p:blipFill>
          <a:blip r:embed="rId1"/>
          <a:stretch/>
        </p:blipFill>
        <p:spPr>
          <a:xfrm>
            <a:off x="658800" y="380880"/>
            <a:ext cx="78264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of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ajor phyla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sid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most mush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yg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many mou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c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y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5:41:56Z</dcterms:created>
  <dc:creator>rubina khan</dc:creator>
  <dc:description/>
  <dc:language>en-US</dc:language>
  <cp:lastModifiedBy>rubina khan</cp:lastModifiedBy>
  <dcterms:modified xsi:type="dcterms:W3CDTF">2018-04-18T15:15:48Z</dcterms:modified>
  <cp:revision>106</cp:revision>
  <dc:subject/>
  <dc:title>PowerPoint Presentation</dc:title>
</cp:coreProperties>
</file>